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173-BBB9-4A1F-9A30-0A1FCCA6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61E-5E8F-4608-803E-DC747723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A7B34-82CA-451D-9A0C-E5AB8AEF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26FF4-0096-44EA-9B07-203191FA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94679-DDB7-43DE-B1A2-7FE1B3A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72CC9-787B-45F6-8E42-79B56040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3EB8C-58A0-4FB6-8B53-B14F9E41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6245B-EB19-4BE7-8E69-E5FA06BF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FF7C9-84E9-4589-ADFC-EF62C3CF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47193-208F-4D51-BFE8-5CCD0D76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EAC57-0497-4726-BF36-2BCAA489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52C65-F872-4E3D-BD22-E0EBE70B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4E8-ACEF-4836-91CD-470922E8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63432-1F2B-4356-8D3D-F8414119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FE886-CAB8-4822-A7F0-61D8EC7D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E8F29-F9BD-4112-9E92-57641710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94774-C9C4-4DA4-AAD5-0A74FC11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8D2A2-0050-4F7C-9851-999BEFDF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2D64F-BFC1-4FC6-B69A-7359603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A440D-30D9-4216-8D16-49F1D3F9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90798-A712-4F5A-8F0F-96BC2952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418E7-49B5-4F1F-BB3B-B85BCFA0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968F8-C1B7-4076-89E7-1B0119F9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EEE-901B-4569-9543-8AFAD1A3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D52F1-E984-439C-A979-1592142F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8E9EF-0ADD-4624-AE59-0B3A09FB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D6F85-2DDE-41BA-8393-68481F6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D9AB6-F16E-4387-BCF2-C5EA96F3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85E75-59D8-42D8-A688-6E72461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B21A0-05FE-4375-9C5A-667D2489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8AA1A-CB72-4131-884A-88EEBEAA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13949-6663-4534-A61D-ADAAA1E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06142-94AE-4462-9B0A-B17DEAB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783D5-0908-4BFD-8AA5-51A50953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95D4-F8D5-4413-9581-70EFB771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4F24F-F7EC-404E-A895-EC0B730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60B7A-3D8F-45FF-BF4D-75296A38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940CA-B77A-4D13-A219-7253DC6B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1F549-5521-44BA-940E-5B8E4262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FA2E7-DC24-4B15-87C9-2C336B8D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3D041-1B24-48FC-A129-C306DBCF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8233E-BC74-4990-9825-D0E7CB80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8BFFB-BA12-4787-A14E-5C5ECF21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4F160-D2DA-4ACE-BFBA-6D593446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E829A-201E-49AA-B981-9C124B67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95A9-4258-4A28-9186-7B0B4F68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831A1-7D26-4069-815B-57A79C83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124D0-36E9-4B78-A60C-81A0FBC7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44519-E1CC-44BF-AEB5-11CBDCE2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0BB5F-240E-45CB-8A79-2D7FC8CA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ABF8F-4274-4604-B4F1-CE4D4B62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E20AE-D515-40B6-AFF4-F4E081DA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6F6C3-1514-47BF-95A1-0882389C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3E6F5-5ABF-41E6-9B3E-78FD2B7F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272C4-409E-4AD8-AD71-7854B536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0FDD1-F95D-4C1C-BACC-36DBD3B3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26B7-3489-4925-A8AB-E94C50F0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FF48A-C24A-444B-A1B7-215D23B4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95F16-CD8C-4E18-BD98-DEF6F40A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15C8D-4C81-4F88-BEB2-A9FA33D5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458F5-1F29-49F5-8DC8-B196C84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FAAE7-C841-4B5F-9677-8CAB64C0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DD577-B759-4255-B319-CD239290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1E888-ED60-45C0-BCF7-0F301A29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F5445-FF85-45D0-8B3D-09243AF3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709CE-9C1F-481B-8A47-CF2D8B7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07181-3886-4C16-B8AC-32CEBF2E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CBD8-7B4E-4F25-A171-8C541381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58C7A-BAB5-4D40-947C-45EB5893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66473-E838-4A5C-B1D3-5A02F894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A8BBF-12ED-4BC7-BED3-19F9C39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689CF-1443-4ACA-834A-329D4A8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D05EE-4BE2-4EE2-BA2C-681F097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59C1E-9EA5-4D00-8214-6C614BA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CA95E-AFB4-41B9-9D83-38FA2E2E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6B844-D2E7-4F4E-BC05-1EF6A388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5E9F4-2150-4AC0-A08A-E153D5A1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2C6A6-B0F1-46AD-BE58-C2D6E6FE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B22B-E0AC-4730-BA2D-1738087D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F3ABF-591B-484D-A249-38F87001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B849E-6FBC-413B-AA8D-8E931D3D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DFF76-A311-42EA-BD22-89E5BBF9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9B7BB-EA1A-4647-B556-13D064D3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91780-8957-48AA-B3FF-295E8738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803E7-772F-487A-AEBB-F08C58B5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CEFEA-6BD0-4E79-BE3A-A2697C5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3A281-C821-4F8D-A7BF-705A252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EF952-E808-4227-BBC6-3B4C1F6A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954B2-7E30-460D-83C5-087CBFA0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2FAE-97F8-42EF-9816-1395DA2E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423E1-24CB-4898-B5E6-3F30F206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92053-5544-49C1-B5FB-41FF7A9B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3BA50-A78F-4AF3-9772-BD6E9563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AE72B-3ADC-4DA8-88CB-09C39E15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31566-FAAE-468C-960F-869AF25A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AD12D-2E20-46F0-9C1D-80546A5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24F6F-E971-4C73-BE49-0598B48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11A81-C79F-4225-9F38-CCAD109B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234F7-E909-4722-8945-8D74372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0EC9D-E134-4965-9DD7-9ED8CED8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1BD3-B81F-4272-95DE-FDAB14C7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C2C2B-3B38-4747-ADB3-35AFF9CF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0D2CC2-9703-4C31-87A2-B5E8D7D0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1597B8-25BE-4635-9C33-5BBC5CEE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56A9A-237A-4779-8856-998A7A79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2262DE-C9F1-4716-A0C6-E7C9E701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721E62-2905-4678-86C4-8F2911E6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1A73D-B7F3-4B8F-A8C6-782F0F43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7DC88-1124-4A11-9AD9-99CB688C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6917F-75BE-438A-BAF5-1A5CC10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8ED89-DEFC-4510-B009-2AE9E66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000-8942-44C1-A577-DB9A369B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6902-0751-4C25-93F7-DD37F5A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20EB2-1CE9-4321-BF29-CFA3758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990B62-8366-45E6-A6C6-8DA2AC3C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A2B27-7591-4FF6-8C15-90CE0DA1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B4511-1ECA-4C9F-86A0-B1B72D94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A2E0B-6351-4536-B2AE-E262BC0B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38DB4-1CFD-4C69-95C5-BEC57E06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491BE-1B4E-4539-BC9D-366DF12D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9E773-6A7E-4BED-A611-FA8A4358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EBA36-3E5E-4B70-BBBB-6FD1A41B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DE8B4-B8AD-40EE-9BA2-4D6B6E6C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9A07-4A1A-44C3-B1AF-9076E6FE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E9720-6079-49CE-BEF4-60AD4BDE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A1226-3D5F-4E1B-87F3-D3B43355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6ABAAC-ECF6-45AA-8C89-D751894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7CE3A-155A-423E-99A1-304626C3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B31A3-C761-49F1-BA3F-513F8D00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08842-31C2-4C71-A2FE-2D3609A7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FB5B4-8918-4807-A7AC-0C38E987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A368F-1F2E-4733-95FA-1428AC70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92080-0ABA-44E4-A5B1-0EEE9918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4B928-D3D7-4937-8F12-2C146858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AD18-AB15-4BAB-9C1A-D6D8F520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B1BA4-3CD6-4A31-AA74-5E3A19DF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C0800B-523C-4632-A523-88C88846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8C79D-97AB-4511-99C2-D0631F74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F75552-EEB1-4A95-AB2D-5C88FC52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64258-A1CE-4422-9AB3-6DFAFD39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74DB0F-D4B6-40CA-8322-4204B1DE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BA0D7-93BB-4973-9B66-8551AFF1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C888C0-F93A-4DEC-A7AD-41A3599B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908F6-31B3-4D7D-AE1F-9347BF3A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D7D0A-75AB-4A90-8B3A-5BF146FD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BB8B-AC03-402E-BCC9-2E7E6E2D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3F356A-53EB-4759-AE7B-59B5EEA2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E1B1D-29BC-4600-BB56-71AABE14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8D7CA-5F44-450D-87C9-62B444E2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F1501-C0BC-4260-BAC1-1063DAB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4C818-8B06-4245-B278-4D07F8A5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1122E-7240-426C-9BEC-C48442C4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348C55-9180-4093-8A12-79CA6010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746B7-20C6-4312-BEE1-FD974157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5EF0D-91BB-4705-9887-E1C5700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A2083-C2FA-4BFF-BF34-71D29C4E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62CC-6B7C-49B1-B12D-481C40C0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0544E-862A-479A-9FE4-4F65CB0D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D3551D-20CA-4C7F-B61B-326DF649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56F66-A9AD-443D-B9B8-64CC4BB5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DF78DD-47C9-4ABE-AB5D-052A9F13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38C51-9492-4DD3-91A0-40BABA34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90003-854B-466E-801E-8A7FD915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B970D-8601-4B16-8895-AF9FFB6C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666D98-0118-425E-8F61-C254DE1E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206AD8-466C-468D-8376-1AA4EB34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6E537D-7635-4A89-882B-A315853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AD15-677A-4908-A9C8-44275F4B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965A55-9272-4F49-AB3A-F8325EBE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EF9407-FD69-4CAB-BFC3-7CE41052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CEFB2-0EFB-4203-AF24-8C2AFB77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A659-F415-4CE2-9818-B89F5BD9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66AD-56B4-4C34-B5E7-F383B25A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0FD3-B23F-43B8-B7C2-88038FF0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D314B-0F54-49BF-A6DA-0BB3DC28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EDD-1E69-46BB-BF57-50C84693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EBC4-E0B7-4828-BAAA-ED300E17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7104-A7E6-4DAF-961F-E09EEAE2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F414-B7B0-4DBA-A44B-B1376750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615CC-786B-462B-A7B9-DE2C630C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BD34-C478-450E-9D41-5A8C1EF5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50CD-FF96-477A-8FCC-79EDEF6A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2D05-7340-45F2-8372-C6C37718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29D0-2633-49AA-AFAF-AF4724BB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72D7-4556-4217-BB88-2AFEBDE8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98307-0929-42DF-B069-3DC427B2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D78-A64C-4524-883F-20E84B5E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6D96-CC80-4E59-950C-8B2BFC81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8F54-250E-477E-8DF5-FFA1059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0607-7D40-4C51-8219-33D6AAFD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DCB4-BC21-4725-8FB5-DC84F490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EB34-3CCA-4E53-94F2-878A40C3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A6018-3D9F-4780-8CA6-18996AC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9F42-BC44-44E9-9FAD-BB203674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0B4D-9E35-4B1C-8467-DAA744E3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5732B-AB28-4A16-B477-E727EA22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69C72-E422-4A6A-BB53-9F4B4E27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C35-BEF2-490D-8EE6-5C365B35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6B7C-8174-4701-9BCC-0FFA8266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28117-DF8E-4AD7-8859-10D7B453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4BBF5-5454-40BF-9EB8-29FF210F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5D0AC-04A7-43D0-8D61-154BAB65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BD8F6-313C-44FB-817F-7DDB9C48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E6D99-597E-43F6-BE8E-F4BA30CA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5D2B-6844-4497-BE41-1FDED7D9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3D499-2017-40C1-9B2D-AAA2F413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8C4B-8817-4B6F-9532-0FE4FA7C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4E5E-6E56-45B9-8996-7BF50185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534-1CF6-4B6F-9408-8CB51984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4A512-64EE-42E3-AFD6-9D6AAEE3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54E58-9A6C-45D7-BB4A-192A085D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4B745-CAF7-400A-A8B7-E5A7FC50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84DD-77E1-457B-BC67-D92FD421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559E0-FFF0-4F37-834A-7B0E4513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552CD-B8F3-48DE-AD7B-054C1A86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22BB4-39DB-47B5-A041-3D163F83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EE8C-0C87-4ABA-8F6A-7A523D11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EAB7D-FBA9-4998-A7B7-3D0847C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9D756-2ED7-4FB3-82EB-207CB25E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F85-175C-4475-BEBA-C8D6AAB8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6D39C-ACC1-4B49-AAD6-9316440A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7E997-F86B-48DD-A9D7-A33224B0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94C9-5007-4EDE-9C9C-C4EA8034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7C4B0-CB6E-46B6-81ED-AB170E7F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E80B5-00D9-4883-8745-4ED949A1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14CCA-9449-421D-B608-5B56520C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7DC76-06B3-4C52-9C1B-ADF0976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11AFD-5AB0-4587-89B4-A4ADCCC9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DA8F-D385-4556-B466-2149BF6C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C8587-723C-49D1-8208-D4B8DAFA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86A-8CD5-4832-919A-4C3C680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7C012-0A62-4B07-9B96-D5AF52EF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CA5C2-25F5-4AC4-837B-E7C7AC23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B9F08-A509-4828-9C35-315D5366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9E4E2-E1CC-480B-A8A9-9BEEF90D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1FB71-770A-476A-9722-9FA687BD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4008E-6879-4B32-8936-0AA51A69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FE13D-0640-4257-A6D3-CD75093B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490D-890F-4A74-B3EB-B61DC3C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B56A8-F113-419C-A3F3-7B1D6061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B0F12-4A6C-47C8-AC7F-48E6B315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373-E6E7-455A-8517-A8345DF4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847C6-8131-4501-8D2D-5309A9A9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DF65-3756-4541-BAE6-51F9BF05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63CF2-1EE1-47A6-B1EC-40D3A87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D3DF4-9019-4FCF-884A-FEF82576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B7C22-9419-4CD4-8C6D-DC8BEAE2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5B6CD-7DDD-476D-A4ED-8D91E133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768B1-66BD-4BF3-A796-7E1FD697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6E58C-B15A-463B-84A5-CEADD837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9AC8F-754A-4DFB-862A-907E69CE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63B12-85E1-40A3-8941-5A0909FC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8606-267F-47CA-9BED-6036C8AB33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AD18-2D49-4A8F-B289-4B5AD312E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EDCA-46AC-4FAF-B246-A6B0398E80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BA82-6D8D-4DC8-AD1A-7CB4451D21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94B8-C664-4636-9E24-C5AF05825E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3CCD-42C4-4979-92F2-22B69AD4A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14C0-03DD-41E1-BB9F-928CAE9347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7734-26FB-4046-9CE0-B820281961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01B2-AC0F-4103-83AE-2F1CB680C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4641-D551-4E6F-B550-52A24ACE44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04A6-44E0-4D99-A132-9C56ADF075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2CB-3866-4947-AAFF-EC1B4CB54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37A4-70B7-426C-9FB7-20157FCAB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36EB-1FC0-458D-8B95-961D3F24D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009C-E931-435A-BAD2-02A78CDFA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E628-C50A-4875-9AAC-2B6D21763E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8390-8FCB-4858-ACDB-E765C2425C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D792-5D13-4698-91FB-E8EE6CA8A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5BC4-B066-464B-A70F-EA8C63ADE9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AFB4-B090-4FB5-B8F2-936AFB667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363F-CAFB-4579-9FA2-B8FFEE4D1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6851-65A9-41AA-B081-176B200730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792A-D508-4CE1-9785-745978F72E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1F2E-478A-4615-9ED7-9485270B97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D7D9-0547-4585-802D-9D7414EF93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B80F-3F04-47F7-86FE-683D624EF7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036D-6E4F-4B86-BDEC-BDD15DC7B2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F5DD-003C-4FF6-BCAB-B504F5A976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3CBE-3E04-432E-A816-600924D70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5C35-0A21-439E-AA46-1B05D8EC1B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67B3-87EE-4B74-B2FF-DE442FBCA6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67B-8AA1-4402-A6C1-63A0176BC6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B8C1-C021-494C-8616-351A250E0B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D812-BC52-43F3-B602-76EDD7A6F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2882-38AB-4BF0-AA77-ADCA4188B1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331F-3B04-4186-8544-27DFD02A9F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C7D2-8A88-4BC5-A0CE-3CDBA480CB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DB16-59C6-4F97-A2D2-92D2C06117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2DF-7007-45AD-801B-A556AB80B2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3BAB-43DA-4EB5-9E5D-ADBACC597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0680" y="3224160"/>
            <a:ext cx="4562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7120" y="828720"/>
            <a:ext cx="8429760" cy="5200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63368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5128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94036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8229600" y="2075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61928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836880" y="2521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925960" y="2593800"/>
            <a:ext cx="360720" cy="3207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8028000" y="253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66356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751200" y="295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9706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821700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166356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767040" y="3398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08328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231040" y="3370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55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1763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2987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3995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5219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6227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4"/>
          <a:stretch/>
        </p:blipFill>
        <p:spPr>
          <a:xfrm>
            <a:off x="7451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5"/>
          <a:stretch/>
        </p:blipFill>
        <p:spPr>
          <a:xfrm>
            <a:off x="8459640" y="4379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9410" descr=""/>
          <p:cNvPicPr/>
          <p:nvPr/>
        </p:nvPicPr>
        <p:blipFill>
          <a:blip r:embed="rId1"/>
          <a:stretch/>
        </p:blipFill>
        <p:spPr>
          <a:xfrm>
            <a:off x="480960" y="1224000"/>
            <a:ext cx="8182080" cy="4410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008000" cy="18730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397240" y="134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3419640" y="174456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205240" y="1341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6443640" y="171612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8229600" y="13129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8"/>
          <a:stretch/>
        </p:blipFill>
        <p:spPr>
          <a:xfrm>
            <a:off x="1809720" y="4691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9"/>
          <a:stretch/>
        </p:blipFill>
        <p:spPr>
          <a:xfrm>
            <a:off x="4452840" y="46782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0"/>
          <a:stretch/>
        </p:blipFill>
        <p:spPr>
          <a:xfrm>
            <a:off x="7083360" y="4691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1"/>
          <a:stretch/>
        </p:blipFill>
        <p:spPr>
          <a:xfrm>
            <a:off x="1679400" y="52545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2"/>
          <a:stretch/>
        </p:blipFill>
        <p:spPr>
          <a:xfrm>
            <a:off x="4452840" y="52419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3"/>
          <a:stretch/>
        </p:blipFill>
        <p:spPr>
          <a:xfrm>
            <a:off x="7080120" y="5254560"/>
            <a:ext cx="2876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8373" descr=""/>
          <p:cNvPicPr/>
          <p:nvPr/>
        </p:nvPicPr>
        <p:blipFill>
          <a:blip r:embed="rId1"/>
          <a:stretch/>
        </p:blipFill>
        <p:spPr>
          <a:xfrm>
            <a:off x="399960" y="2209680"/>
            <a:ext cx="8344080" cy="2438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1152720" cy="1656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716360" y="3852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5651640" y="2844720"/>
            <a:ext cx="1152360" cy="1656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7812000" y="390852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7352" descr=""/>
          <p:cNvPicPr/>
          <p:nvPr/>
        </p:nvPicPr>
        <p:blipFill>
          <a:blip r:embed="rId1"/>
          <a:stretch/>
        </p:blipFill>
        <p:spPr>
          <a:xfrm>
            <a:off x="552600" y="1490760"/>
            <a:ext cx="8038800" cy="3876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280836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280836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55640" y="4619520"/>
            <a:ext cx="280836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826920" y="4954680"/>
            <a:ext cx="6481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6324" descr=""/>
          <p:cNvPicPr/>
          <p:nvPr/>
        </p:nvPicPr>
        <p:blipFill>
          <a:blip r:embed="rId1"/>
          <a:stretch/>
        </p:blipFill>
        <p:spPr>
          <a:xfrm>
            <a:off x="162000" y="1038240"/>
            <a:ext cx="8820000" cy="48387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539640" y="17859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395280" y="2133720"/>
            <a:ext cx="460836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5148360" y="42195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5148360" y="452124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7"/>
          <a:stretch/>
        </p:blipFill>
        <p:spPr>
          <a:xfrm>
            <a:off x="5146560" y="4869000"/>
            <a:ext cx="3529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55300" descr=""/>
          <p:cNvPicPr/>
          <p:nvPr/>
        </p:nvPicPr>
        <p:blipFill>
          <a:blip r:embed="rId1"/>
          <a:stretch/>
        </p:blipFill>
        <p:spPr>
          <a:xfrm>
            <a:off x="152280" y="1438200"/>
            <a:ext cx="8839440" cy="39816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4932360" y="298440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4932360" y="334476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6"/>
          <a:stretch/>
        </p:blipFill>
        <p:spPr>
          <a:xfrm>
            <a:off x="7164360" y="2971800"/>
            <a:ext cx="158436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7"/>
          <a:stretch/>
        </p:blipFill>
        <p:spPr>
          <a:xfrm>
            <a:off x="539640" y="4365720"/>
            <a:ext cx="4319640" cy="3776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8"/>
          <a:stretch/>
        </p:blipFill>
        <p:spPr>
          <a:xfrm>
            <a:off x="539640" y="4784760"/>
            <a:ext cx="431964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9"/>
          <a:stretch/>
        </p:blipFill>
        <p:spPr>
          <a:xfrm>
            <a:off x="468360" y="5097600"/>
            <a:ext cx="4319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1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